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735-FC21-494C-8969-619FD199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F0E-465A-4531-8727-743169BD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8ED-407C-4A31-9D27-9AEDCD18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C28-BDE1-4182-9777-6B0FB617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CE8D-5EF9-4DC7-A880-6FDB9D25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A2B9-EF03-4F01-B2A6-E99C2550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3618-CB59-4DC7-AEA0-3EB286E7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B13C-7F71-4CCC-9772-E6CFF90B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21CE-5EEB-421D-BFD7-6338E40F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D459-1815-406A-8379-0B8D4CF9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C875-DDA6-469E-814D-E8975BA0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099-5753-4FCB-92F5-65033890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F5D4-CE14-4B52-879D-D7A160A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D79D-9E10-4E69-820D-A7869AD5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BE1-0E57-48C5-AE9A-0CD7F06F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55AF-89BF-4A8B-BC7B-0D4B7410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871-DDD8-4F43-B178-58AC4841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E6A-0ACA-4187-96C4-EAF1C80C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F1C-8CE0-4BA6-8FF1-E6F8E8D9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E7E-BE1D-4EBE-A732-8760D70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F8F-713C-4B4C-A4E0-52702140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CC8-0854-4813-9BC5-847F02B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BA8-2449-4176-A20F-20B8088E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665-674E-4D9C-ABA2-F14C3223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1800" y="3378240"/>
            <a:ext cx="5359320" cy="2425680"/>
          </a:xfrm>
          <a:custGeom>
            <a:avLst/>
            <a:gdLst/>
            <a:ahLst/>
            <a:rect l="l" t="t" r="r" b="b"/>
            <a:pathLst>
              <a:path w="3376" h="1528">
                <a:moveTo>
                  <a:pt x="0" y="1525"/>
                </a:moveTo>
                <a:lnTo>
                  <a:pt x="79" y="1498"/>
                </a:lnTo>
                <a:lnTo>
                  <a:pt x="753" y="1223"/>
                </a:lnTo>
                <a:lnTo>
                  <a:pt x="1048" y="1054"/>
                </a:lnTo>
                <a:lnTo>
                  <a:pt x="1122" y="1007"/>
                </a:lnTo>
                <a:lnTo>
                  <a:pt x="1164" y="974"/>
                </a:lnTo>
                <a:lnTo>
                  <a:pt x="1164" y="918"/>
                </a:lnTo>
                <a:lnTo>
                  <a:pt x="1637" y="734"/>
                </a:lnTo>
                <a:lnTo>
                  <a:pt x="1715" y="731"/>
                </a:lnTo>
                <a:lnTo>
                  <a:pt x="1787" y="725"/>
                </a:lnTo>
                <a:lnTo>
                  <a:pt x="1901" y="707"/>
                </a:lnTo>
                <a:lnTo>
                  <a:pt x="2015" y="678"/>
                </a:lnTo>
                <a:lnTo>
                  <a:pt x="2162" y="620"/>
                </a:lnTo>
                <a:lnTo>
                  <a:pt x="2069" y="578"/>
                </a:lnTo>
                <a:lnTo>
                  <a:pt x="2195" y="605"/>
                </a:lnTo>
                <a:lnTo>
                  <a:pt x="2276" y="578"/>
                </a:lnTo>
                <a:lnTo>
                  <a:pt x="2186" y="533"/>
                </a:lnTo>
                <a:lnTo>
                  <a:pt x="2309" y="560"/>
                </a:lnTo>
                <a:lnTo>
                  <a:pt x="2399" y="521"/>
                </a:lnTo>
                <a:lnTo>
                  <a:pt x="2315" y="470"/>
                </a:lnTo>
                <a:lnTo>
                  <a:pt x="2453" y="494"/>
                </a:lnTo>
                <a:lnTo>
                  <a:pt x="2619" y="430"/>
                </a:lnTo>
                <a:lnTo>
                  <a:pt x="2888" y="302"/>
                </a:lnTo>
                <a:lnTo>
                  <a:pt x="3099" y="182"/>
                </a:lnTo>
                <a:lnTo>
                  <a:pt x="3376" y="0"/>
                </a:lnTo>
                <a:lnTo>
                  <a:pt x="3016" y="144"/>
                </a:lnTo>
                <a:lnTo>
                  <a:pt x="2801" y="230"/>
                </a:lnTo>
                <a:lnTo>
                  <a:pt x="2619" y="302"/>
                </a:lnTo>
                <a:lnTo>
                  <a:pt x="2386" y="398"/>
                </a:lnTo>
                <a:lnTo>
                  <a:pt x="2146" y="478"/>
                </a:lnTo>
                <a:lnTo>
                  <a:pt x="1792" y="624"/>
                </a:lnTo>
                <a:lnTo>
                  <a:pt x="1601" y="710"/>
                </a:lnTo>
                <a:lnTo>
                  <a:pt x="1135" y="886"/>
                </a:lnTo>
                <a:lnTo>
                  <a:pt x="1098" y="871"/>
                </a:lnTo>
                <a:lnTo>
                  <a:pt x="993" y="871"/>
                </a:lnTo>
                <a:lnTo>
                  <a:pt x="450" y="1039"/>
                </a:lnTo>
                <a:lnTo>
                  <a:pt x="8" y="1214"/>
                </a:lnTo>
                <a:lnTo>
                  <a:pt x="27" y="1240"/>
                </a:lnTo>
                <a:lnTo>
                  <a:pt x="35" y="1237"/>
                </a:lnTo>
                <a:lnTo>
                  <a:pt x="10" y="1528"/>
                </a:lnTo>
                <a:lnTo>
                  <a:pt x="0" y="1525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297000" y="5163480"/>
                <a:ext cx="695160" cy="183960"/>
              </a:xfrm>
              <a:custGeom>
                <a:avLst/>
                <a:gdLst>
                  <a:gd name="textAreaLeft" fmla="*/ 152640 w 695160"/>
                  <a:gd name="textAreaRight" fmla="*/ 542520 w 695160"/>
                  <a:gd name="textAreaTop" fmla="*/ 40320 h 183960"/>
                  <a:gd name="textAreaBottom" fmla="*/ 14364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43080" y="5210280"/>
                <a:ext cx="179280" cy="623880"/>
              </a:xfrm>
              <a:custGeom>
                <a:avLst/>
                <a:gdLst/>
                <a:ahLst/>
                <a:rect l="l" t="t" r="r" b="b"/>
                <a:pathLst>
                  <a:path w="113" h="393">
                    <a:moveTo>
                      <a:pt x="68" y="0"/>
                    </a:moveTo>
                    <a:lnTo>
                      <a:pt x="0" y="110"/>
                    </a:lnTo>
                    <a:lnTo>
                      <a:pt x="3" y="361"/>
                    </a:lnTo>
                    <a:lnTo>
                      <a:pt x="36" y="379"/>
                    </a:lnTo>
                    <a:lnTo>
                      <a:pt x="63" y="385"/>
                    </a:lnTo>
                    <a:lnTo>
                      <a:pt x="92" y="392"/>
                    </a:lnTo>
                    <a:lnTo>
                      <a:pt x="90" y="136"/>
                    </a:lnTo>
                    <a:lnTo>
                      <a:pt x="112" y="10"/>
                    </a:lnTo>
                    <a:lnTo>
                      <a:pt x="102" y="10"/>
                    </a:lnTo>
                    <a:lnTo>
                      <a:pt x="81" y="6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68280" y="5211720"/>
                <a:ext cx="106560" cy="585720"/>
              </a:xfrm>
              <a:custGeom>
                <a:avLst/>
                <a:gdLst/>
                <a:ahLst/>
                <a:rect l="l" t="t" r="r" b="b"/>
                <a:pathLst>
                  <a:path w="67" h="369">
                    <a:moveTo>
                      <a:pt x="0" y="133"/>
                    </a:moveTo>
                    <a:lnTo>
                      <a:pt x="0" y="357"/>
                    </a:lnTo>
                    <a:lnTo>
                      <a:pt x="20" y="368"/>
                    </a:lnTo>
                    <a:lnTo>
                      <a:pt x="20" y="141"/>
                    </a:lnTo>
                    <a:lnTo>
                      <a:pt x="20" y="125"/>
                    </a:lnTo>
                    <a:lnTo>
                      <a:pt x="29" y="111"/>
                    </a:lnTo>
                    <a:lnTo>
                      <a:pt x="66" y="4"/>
                    </a:lnTo>
                    <a:lnTo>
                      <a:pt x="59" y="0"/>
                    </a:lnTo>
                    <a:lnTo>
                      <a:pt x="8" y="113"/>
                    </a:lnTo>
                    <a:lnTo>
                      <a:pt x="0" y="133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6920" y="5199120"/>
                <a:ext cx="157320" cy="576360"/>
              </a:xfrm>
              <a:custGeom>
                <a:avLst/>
                <a:gdLst/>
                <a:ahLst/>
                <a:rect l="l" t="t" r="r" b="b"/>
                <a:pathLst>
                  <a:path w="99" h="363">
                    <a:moveTo>
                      <a:pt x="98" y="102"/>
                    </a:moveTo>
                    <a:lnTo>
                      <a:pt x="98" y="348"/>
                    </a:lnTo>
                    <a:lnTo>
                      <a:pt x="81" y="362"/>
                    </a:lnTo>
                    <a:lnTo>
                      <a:pt x="81" y="106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98" y="10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00200" y="510372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81200" y="528156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3960" y="5159520"/>
                <a:ext cx="115920" cy="36360"/>
              </a:xfrm>
              <a:custGeom>
                <a:avLst/>
                <a:gdLst/>
                <a:ahLst/>
                <a:rect l="l" t="t" r="r" b="b"/>
                <a:pathLst>
                  <a:path w="73" h="23">
                    <a:moveTo>
                      <a:pt x="72" y="22"/>
                    </a:moveTo>
                    <a:lnTo>
                      <a:pt x="37" y="18"/>
                    </a:lnTo>
                    <a:lnTo>
                      <a:pt x="16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8"/>
                    </a:lnTo>
                    <a:lnTo>
                      <a:pt x="45" y="14"/>
                    </a:lnTo>
                    <a:lnTo>
                      <a:pt x="68" y="14"/>
                    </a:lnTo>
                    <a:lnTo>
                      <a:pt x="72" y="22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36400" y="5213520"/>
                <a:ext cx="128880" cy="187200"/>
              </a:xfrm>
              <a:custGeom>
                <a:avLst/>
                <a:gdLst/>
                <a:ahLst/>
                <a:rect l="l" t="t" r="r" b="b"/>
                <a:pathLst>
                  <a:path w="81" h="118">
                    <a:moveTo>
                      <a:pt x="40" y="0"/>
                    </a:moveTo>
                    <a:lnTo>
                      <a:pt x="80" y="4"/>
                    </a:lnTo>
                    <a:lnTo>
                      <a:pt x="65" y="40"/>
                    </a:lnTo>
                    <a:lnTo>
                      <a:pt x="58" y="62"/>
                    </a:lnTo>
                    <a:lnTo>
                      <a:pt x="47" y="82"/>
                    </a:lnTo>
                    <a:lnTo>
                      <a:pt x="40" y="105"/>
                    </a:lnTo>
                    <a:lnTo>
                      <a:pt x="37" y="117"/>
                    </a:lnTo>
                    <a:lnTo>
                      <a:pt x="16" y="114"/>
                    </a:lnTo>
                    <a:lnTo>
                      <a:pt x="0" y="108"/>
                    </a:lnTo>
                    <a:lnTo>
                      <a:pt x="7" y="84"/>
                    </a:lnTo>
                    <a:lnTo>
                      <a:pt x="25" y="60"/>
                    </a:lnTo>
                    <a:lnTo>
                      <a:pt x="29" y="40"/>
                    </a:lnTo>
                    <a:lnTo>
                      <a:pt x="36" y="2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b366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7840" y="5183280"/>
                <a:ext cx="414000" cy="55440"/>
              </a:xfrm>
              <a:custGeom>
                <a:avLst/>
                <a:gdLst/>
                <a:ahLst/>
                <a:rect l="l" t="t" r="r" b="b"/>
                <a:pathLst>
                  <a:path w="261" h="35">
                    <a:moveTo>
                      <a:pt x="0" y="0"/>
                    </a:moveTo>
                    <a:lnTo>
                      <a:pt x="25" y="10"/>
                    </a:lnTo>
                    <a:lnTo>
                      <a:pt x="66" y="18"/>
                    </a:lnTo>
                    <a:lnTo>
                      <a:pt x="122" y="19"/>
                    </a:lnTo>
                    <a:lnTo>
                      <a:pt x="177" y="19"/>
                    </a:lnTo>
                    <a:lnTo>
                      <a:pt x="218" y="12"/>
                    </a:lnTo>
                    <a:lnTo>
                      <a:pt x="240" y="6"/>
                    </a:lnTo>
                    <a:lnTo>
                      <a:pt x="248" y="0"/>
                    </a:lnTo>
                    <a:lnTo>
                      <a:pt x="260" y="15"/>
                    </a:lnTo>
                    <a:lnTo>
                      <a:pt x="221" y="28"/>
                    </a:lnTo>
                    <a:lnTo>
                      <a:pt x="164" y="34"/>
                    </a:lnTo>
                    <a:lnTo>
                      <a:pt x="98" y="33"/>
                    </a:lnTo>
                    <a:lnTo>
                      <a:pt x="39" y="24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601560" y="3022560"/>
              <a:ext cx="671760" cy="2168640"/>
            </a:xfrm>
            <a:custGeom>
              <a:avLst/>
              <a:gdLst/>
              <a:ahLst/>
              <a:rect l="l" t="t" r="r" b="b"/>
              <a:pathLst>
                <a:path w="423" h="1366">
                  <a:moveTo>
                    <a:pt x="356" y="64"/>
                  </a:moveTo>
                  <a:lnTo>
                    <a:pt x="326" y="163"/>
                  </a:lnTo>
                  <a:lnTo>
                    <a:pt x="292" y="293"/>
                  </a:lnTo>
                  <a:lnTo>
                    <a:pt x="258" y="417"/>
                  </a:lnTo>
                  <a:lnTo>
                    <a:pt x="219" y="585"/>
                  </a:lnTo>
                  <a:lnTo>
                    <a:pt x="168" y="775"/>
                  </a:lnTo>
                  <a:lnTo>
                    <a:pt x="126" y="952"/>
                  </a:lnTo>
                  <a:lnTo>
                    <a:pt x="89" y="1085"/>
                  </a:lnTo>
                  <a:lnTo>
                    <a:pt x="0" y="1362"/>
                  </a:lnTo>
                  <a:lnTo>
                    <a:pt x="29" y="1365"/>
                  </a:lnTo>
                  <a:lnTo>
                    <a:pt x="132" y="1061"/>
                  </a:lnTo>
                  <a:lnTo>
                    <a:pt x="223" y="957"/>
                  </a:lnTo>
                  <a:lnTo>
                    <a:pt x="271" y="866"/>
                  </a:lnTo>
                  <a:lnTo>
                    <a:pt x="308" y="798"/>
                  </a:lnTo>
                  <a:lnTo>
                    <a:pt x="214" y="790"/>
                  </a:lnTo>
                  <a:lnTo>
                    <a:pt x="311" y="782"/>
                  </a:lnTo>
                  <a:lnTo>
                    <a:pt x="325" y="751"/>
                  </a:lnTo>
                  <a:lnTo>
                    <a:pt x="231" y="742"/>
                  </a:lnTo>
                  <a:lnTo>
                    <a:pt x="329" y="738"/>
                  </a:lnTo>
                  <a:lnTo>
                    <a:pt x="344" y="690"/>
                  </a:lnTo>
                  <a:lnTo>
                    <a:pt x="240" y="690"/>
                  </a:lnTo>
                  <a:lnTo>
                    <a:pt x="351" y="664"/>
                  </a:lnTo>
                  <a:lnTo>
                    <a:pt x="387" y="486"/>
                  </a:lnTo>
                  <a:lnTo>
                    <a:pt x="411" y="322"/>
                  </a:lnTo>
                  <a:lnTo>
                    <a:pt x="422" y="197"/>
                  </a:lnTo>
                  <a:lnTo>
                    <a:pt x="422" y="119"/>
                  </a:lnTo>
                  <a:lnTo>
                    <a:pt x="408" y="68"/>
                  </a:lnTo>
                  <a:lnTo>
                    <a:pt x="381" y="0"/>
                  </a:lnTo>
                  <a:lnTo>
                    <a:pt x="356" y="64"/>
                  </a:lnTo>
                </a:path>
              </a:pathLst>
            </a:custGeom>
            <a:gradFill rotWithShape="0">
              <a:gsLst>
                <a:gs pos="0">
                  <a:srgbClr val="8d1919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21" name=""/>
          <p:cNvSpPr/>
          <p:nvPr/>
        </p:nvSpPr>
        <p:spPr>
          <a:xfrm>
            <a:off x="600120" y="3164040"/>
            <a:ext cx="560520" cy="2022480"/>
          </a:xfrm>
          <a:custGeom>
            <a:avLst/>
            <a:gdLst/>
            <a:ahLst/>
            <a:rect l="l" t="t" r="r" b="b"/>
            <a:pathLst>
              <a:path w="353" h="1274">
                <a:moveTo>
                  <a:pt x="0" y="1272"/>
                </a:moveTo>
                <a:lnTo>
                  <a:pt x="352" y="0"/>
                </a:lnTo>
                <a:lnTo>
                  <a:pt x="26" y="1273"/>
                </a:lnTo>
                <a:lnTo>
                  <a:pt x="0" y="12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/>
            <a:ahLst/>
            <a:rect l="l" t="t" r="r" b="b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80160 w 1728720"/>
                  <a:gd name="textAreaRight" fmla="*/ 1348560 w 1728720"/>
                  <a:gd name="textAreaTop" fmla="*/ 88920 h 405000"/>
                  <a:gd name="textAreaBottom" fmla="*/ 31608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/>
                <a:ahLst/>
                <a:rect l="l" t="t" r="r" b="b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/>
                <a:ahLst/>
                <a:rect l="l" t="t" r="r" b="b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/>
                <a:ahLst/>
                <a:rect l="l" t="t" r="r" b="b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66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66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/>
                <a:ahLst/>
                <a:rect l="l" t="t" r="r" b="b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/>
                <a:ahLst/>
                <a:rect l="l" t="t" r="r" b="b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b366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/>
                <a:ahLst/>
                <a:rect l="l" t="t" r="r" b="b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a64c4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/>
                <a:ahLst/>
                <a:rect l="l" t="t" r="r" b="b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66"/>
                  </a:solidFill>
                  <a:latin typeface="Arial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 Tell The Good News – Part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Quarter 12, Lesson 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alatian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ges 125-13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3456000" cy="2560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hurches of Galat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ntioch of Pisid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coniu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ystr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rb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ossibly others that started through their influenc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ircumcision Issu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ad been settled in Acts 15 so far as the apostles were concerned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ut, some teachers in the churches of Galatia loved their ideas of circumcision and the Law of Moses more than they loved Jesus’ apostl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y denied Paul was an apostl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us, they undermined his apostolic authority and the conclusions he sent back from the apostolic meeting in Acts 15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We will call them “Judaizing teachers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udaizing Teach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Were Jews who had been converted to Chris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But, they demanded that Gentiles must first become Jews (by being circumcised) before they could be accepted as brethre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se false teachers were a source of bitter opposition to Paul and oth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Book of Galat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080" y="1442520"/>
            <a:ext cx="8775720" cy="485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y message came straight from God – 1:1 - 2:2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od made me an apostle – 1:1-5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How could you accept another gospel so soon ? – 1:6-10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I know what I am talking about – 1:11-24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other apostles acknowledged my gospel – 2:1-10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eter’s momentary lapse into hypocrisy was not an open denial of Paul’s truthfulness and apostleship – 2:11-2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Book of Galat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y message came straight from God – 1:1 - 2:2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iritual freedom is in Christ, not through the law of Moses – 3:1 - 4:3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Justification comes by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faith in Christ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, not by the law of Moses – 3:1-4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ose under the law were under a curse – 3:10-12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Jesus became a curse to make forgiveness possible – 3:13-14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dding the law did not void the promise God had made – 3:15 - 4:7 (Gen.12:1-4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The law was added because of transgression until the seed came – 3:19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Book of Galat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080" y="1447560"/>
            <a:ext cx="87757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y message came straight from God – 1:1 - 2:2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iritual freedom is in Christ, not through the law of Moses – 3:1 - 4:3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e law of God was not contrary to the promise of God (3:19-24)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ut the law could not give life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ll men were locked in sin and mere law could not erase those sin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ll Are Children of God By Faith In Jesus – 3:23-29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doption as sons does not enslave us to the law – 4:1-7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Why would anyone want to go back to a slavery that could not save? – 4:8-11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Why have your feelings for me changed? Who caused them to change? – 4:12-20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ou are helping to fulfill the allegory of Ishmael and Isaac – 4:21-31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 of Book of Galat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0080" y="1447560"/>
            <a:ext cx="8775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y message came straight from God – 1:1 - 2:2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iritual freedom is in Christ, not through the law of Moses – 3:1 - 4:3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ou were set free; do not go back under bondage – 5:1 - 6:18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ne who accepts circumcision (as legally binding) is obligated to keep the whole law – 5:2-12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o not use your freedom as license to indulge the flesh – 5:13-15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Walk by the Spirit and you will not fulfill the desires of the flesh – 5:16-26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Keep your responsibilities to one another – 6:1-10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e false teachers do not keep the law – 6:11-16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y boast is only in the cross of Christ – 6:17-18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9:46:00Z</dcterms:created>
  <dc:creator>Terry W. Benton</dc:creator>
  <dc:description/>
  <dc:language>en-US</dc:language>
  <cp:lastModifiedBy>Frank D Vines</cp:lastModifiedBy>
  <dcterms:modified xsi:type="dcterms:W3CDTF">2007-01-07T02:17:36Z</dcterms:modified>
  <cp:revision>5</cp:revision>
  <dc:subject/>
  <dc:title>Go Tell The Good News – Part 2</dc:title>
</cp:coreProperties>
</file>